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885-F991-411A-9BC5-97514683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065-60D9-4196-BDF8-5C9759B38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299-964F-43CA-A3A5-4711B3865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E5D-A9F9-4162-BF66-B0436191B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F1F-6303-4B27-B77E-20110FF57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858-3361-43BB-82B9-DCC9CE2DDE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F34-4629-4573-A870-8E31177F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2F0-49F2-4747-B976-73A8492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201-69F3-4A28-B6C8-E935D98E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F66-B187-4632-BE77-7CFB3970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2C3-791E-4A67-BCED-39B601C4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5CA-599D-4397-857D-9186070D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40A-06B9-4A91-A859-8522A88E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EEE-239C-4537-A53F-EEC1718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1772-AC6D-4D31-8701-15F526C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5CF3-17FC-4F33-9DF3-484EC18C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9F84-CBC0-4B1F-9379-F661787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1D2-F7D1-4219-A8C7-C81F6D3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4D4-4C46-42AD-A7E9-D245C59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5E4D-F2A7-482F-9FBA-EE91A0A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C0A-AAB4-40AA-81E8-1C791108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DFB-FF36-4381-8981-E2573FC9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1228-BE7B-4650-B688-5105472C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AA0-9A80-46D1-A704-F928483F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FE0-F92C-4438-9007-F9067809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A51-1BB7-423A-8A69-9291D3C6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B17-23FA-45F5-9740-33DA4B0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BA8-57BD-4705-B894-12321460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195-DCB5-4AE4-B8D3-BD95B56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796-40E4-4A1F-9916-52C8867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DF8-5637-4D2C-8753-4F2974DD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3FF-20B8-4500-A1AE-56F9E95BB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ederal District Cour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DEFINE ORIGIN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743200" y="3178080"/>
            <a:ext cx="39956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EFINE APELLATE JURISDICTION.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16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Federal Circuit court of Appeals is YOU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63720" y="3276720"/>
            <a:ext cx="3614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appoints Federal Judg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698920" y="3763800"/>
            <a:ext cx="37461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approves Federal Judg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236680" y="3200400"/>
            <a:ext cx="46706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1T13:47:54Z</dcterms:modified>
  <cp:revision>136</cp:revision>
  <dc:subject/>
  <dc:title>D/O: TO EXPLAIN AND IDENTIFY PROBLEMS OF ECONOMICS</dc:title>
</cp:coreProperties>
</file>